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050320" y="152280"/>
            <a:ext cx="91584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016760" y="152280"/>
            <a:ext cx="97956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T-PS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522560" y="8128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18.04.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1600" y="4175280"/>
            <a:ext cx="8042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0 Status Siskin and Pl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5000760"/>
            <a:ext cx="296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5-04-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PL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rouk Z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D SWP Mario Topel February 9th, 2004 - Confidential 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0 Status Siskin – All declarations sig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74760" y="1200240"/>
            <a:ext cx="8529120" cy="5226480"/>
            <a:chOff x="374760" y="1200240"/>
            <a:chExt cx="8529120" cy="5226480"/>
          </a:xfrm>
        </p:grpSpPr>
        <p:sp>
          <p:nvSpPr>
            <p:cNvPr id="104" name=""/>
            <p:cNvSpPr/>
            <p:nvPr/>
          </p:nvSpPr>
          <p:spPr>
            <a:xfrm>
              <a:off x="374760" y="1200240"/>
              <a:ext cx="8529120" cy="522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8120" y="1200240"/>
              <a:ext cx="8440200" cy="522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71520" y="1289160"/>
            <a:ext cx="8518320" cy="54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R-value of Siskin too high =&gt; Red Q-Gate 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alue below 1.3 Wkg can be committed (which is less than Leopard and less than Adonis) but as this is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ill above the Siemens internal requirements, an approval from the MD-board is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roject team (PD- and Rea) will propose to accept this value and declare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son 732 vs Epson 758 Video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0-planning is based on use of the Epson 732 (reuse from Penelope/Phoenix/Siri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son 758 is pin/SW-compatible to Epson 716 but supports a 1.3MPix cam and fits Siskin feature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son 758 has a cost saving potential of appr. 1.6 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ility of Epson 758 does not fit to the project schedule and would lead to a delay of 5 week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ading to a delivery start mid of Januar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son 758 leads to a high risk due to potential bugs in new chip and additional SW effo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project team (PD- and Rea) will propose to change to Epson 7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 MPix-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schedule for new 1.3 MPix Camera from BYD (One-stop-shopping) highly ris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back solution to use modified X75 Platform camera (Premier) would require a slight design chang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height increase of 0.4mm) =&gt; still under invest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M/H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f M-Alpha target, but ASP increased by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5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ue to upgrade to 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Business Case is negative =&gt; -2.1% EBIT, -5.5 Mio Euro (appr. -2 Euro/ph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D SWP Mario Topel February 9th, 2004 - Confidential 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0 Status Plo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4120" y="1244520"/>
            <a:ext cx="8529480" cy="5174280"/>
            <a:chOff x="384120" y="1244520"/>
            <a:chExt cx="8529480" cy="5174280"/>
          </a:xfrm>
        </p:grpSpPr>
        <p:sp>
          <p:nvSpPr>
            <p:cNvPr id="109" name=""/>
            <p:cNvSpPr/>
            <p:nvPr/>
          </p:nvSpPr>
          <p:spPr>
            <a:xfrm>
              <a:off x="384120" y="1244520"/>
              <a:ext cx="8529480" cy="517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7480" y="1244520"/>
              <a:ext cx="8440560" cy="51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63600" y="1392120"/>
            <a:ext cx="85183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LCM1 signature is missing due to missing confirmation from Global Lin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son SACC-X Music Chi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son SACC-X is pin-compatible to Epson SACC-1 but additionally includes an MMC-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 availability of Epson 758 does fits to the project schedule but leads to a high risk due to potential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ugs in new chip and additional SW effo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 risk associated with high SW-effort for new implementation o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 I/O 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-Mass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display and MMC Interface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e to reuse of platform vibra and desing limitations, vibration force most likely does not fulfil TC requirements (worse than Leopard, better than Adon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source display due to SW limitations (SGL SW only fits to 130x130 and not to 128x128 resolu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M/H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f M-Alpha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Business Case is negative =&gt; -2.1% EBIT, -5.5 Mio Euro (appr. -2 Euro/ph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D SWP Mario Topel February 9th, 2004 - Confidential 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 Topel</dc:creator>
  <dc:description/>
  <dc:language>en-US</dc:language>
  <cp:lastModifiedBy>cn1fz000</cp:lastModifiedBy>
  <cp:lastPrinted>2004-02-29T14:41:19Z</cp:lastPrinted>
  <dcterms:modified xsi:type="dcterms:W3CDTF">2005-04-15T10:37:49Z</dcterms:modified>
  <cp:revision>500</cp:revision>
  <dc:subject>SW-Status SGold Lite Platform</dc:subject>
  <dc:title>PowerPoint Presentation</dc:title>
</cp:coreProperties>
</file>